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E40-FC67-4610-A589-4E52AA8F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C86-A7A9-49DC-AE69-D3E7029B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1B3-7669-49E7-A5D4-76483A7D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BE8-0164-4B88-A319-56D0261C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34E8-D1A0-403F-965C-42149996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7402-76F8-4863-8652-6D1FA5DC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A7E7-716C-4C0C-BF22-82D03E2B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0CEE-4B64-42FB-BBC2-8C7B9344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B83C-52B3-4207-8A26-9B7BED43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F808-9465-4472-BC88-35CBFE76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0FEA-35BE-4F22-AF03-3448019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01C-96BF-4B22-8D56-EA5491D0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58BE-9687-428F-8345-B4DDC17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6212-8A1A-46C2-BD1B-34A36FE9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66D5-8763-402D-81EC-045EDD39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234F-72E8-46F5-A53B-8F937154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89A8-537B-4B26-A26F-12CF59A1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FA2-BD55-4377-B60A-012DCBF5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0A4-F1DA-4D22-872B-AF8963BD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468-3828-41DC-9BDB-3BE39B0E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860-0159-472F-B4AB-77157A8B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646-3515-4AFC-9D94-8CDF533C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FBE-F2FC-4D67-9382-48BF4FC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167-7A23-4458-A446-890444CF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4EA0-F533-4217-85FF-25F2A4A3C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3FB4-C68C-466D-BA8A-9C68CE005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Human Digestive Syste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completely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par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orld of Enzymatic “ases”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r (into duoden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s bile and activates lip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ncreas (into duoden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ypsin &amp; Chymotryps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in to polypept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yl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ches into disacchar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p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s into fatty acids and gly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orld of Enzymatic “ases”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ino peptid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protein digestion (amino aci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t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tose into monosacchara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ct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tose into monosacchara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cr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rose into monosacchara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5 Digestive Goal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ly reduce size of food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food moist (hydroly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ly reduce molecular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1240" indent="-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POLYMERS into MON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b ALL possible usable chemical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1240" indent="-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BIG”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1240" indent="-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1240" indent="-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tamins and mi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LL unused “waste”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250" autoRev="1" fill="remove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93" dur="250" autoRev="1" fill="remove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4" dur="250" autoRev="1" fill="remove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250" autoRev="1" fill="remove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97" dur="250" autoRev="1" fill="remove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8" dur="250" autoRev="1" fill="remove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50" autoRev="1" fill="remove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01" dur="250" autoRev="1" fill="remove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02" dur="250" autoRev="1" fill="remove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250" autoRev="1" fill="remove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05" dur="250" autoRev="1" fill="remove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06" dur="250" autoRev="1" fill="remove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250" autoRev="1" fill="remove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09" dur="250" autoRev="1" fill="remove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0" dur="250" autoRev="1" fill="remove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50" autoRev="1" fill="remove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13" dur="250" autoRev="1" fill="remove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4" dur="250" autoRev="1" fill="remove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remove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remove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8" dur="250" autoRev="1" fill="remove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250" autoRev="1" fill="remove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21" dur="250" autoRev="1" fill="remove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2" dur="250" autoRev="1" fill="remove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250" autoRev="1" fill="remove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25" dur="250" autoRev="1" fill="remove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6" dur="250" autoRev="1" fill="remove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01668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XPLAIN…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itle 1"/>
          <p:cNvSpPr/>
          <p:nvPr/>
        </p:nvSpPr>
        <p:spPr>
          <a:xfrm>
            <a:off x="380880" y="61815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USE SUPPORTING INFOR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4000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ges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560" y="1676520"/>
            <a:ext cx="6553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ss of breaking down food into usable products for cellular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pening continues to one 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nly continuous pathway through the body with no solid barrier to cro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hase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cal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mical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zy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outh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37920" y="167616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e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t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ubricates and hydro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ivary g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enz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ch digestion beg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n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i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lus 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sophagu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cm long (12 inch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ular tu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stal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ular contractions…wave-l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is actively m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 food upside dow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omach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layers of smooth muscle that “overlap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ds called rug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tric g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ats stomach and prevents enzymatic activ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stomach w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 (pH=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ds in di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s protein break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6 hrs.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2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mall Intest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cm diameter &amp; 7-8 meters l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ence of many villi…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sections (highly intertwin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ode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digestion occurs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ju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rption of carbs and prote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le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rption of fat, salts and large vitamins 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stinal gla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uscle lining and produce variety of flu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id is alkaline to neutralize HC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15429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arge Intestine (Colon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cm diameter and 2 meters l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major sections and 2 min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ones are geometric…frames sm.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ending, transverse, desc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or ones are at beginning and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cum and Sigmoid co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endix (vestigi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 for bacteria to finish digestion (E. Co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vitamin K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1a5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58ff"/>
                </a:solidFill>
                <a:latin typeface="Calibri"/>
              </a:rPr>
              <a:t>Reabsorbs water into bod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l stop…rectum and anal op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ccessory gland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ncreatic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3 different enz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d into duoden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lin (not for digestion purpo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ulsifier (mechanic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ally breaks up fat into smaller glob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orld of Enzymatic “ases”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l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8% water, salts, mucus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tyalin &amp; amyl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starch into disacchar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tric ju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psinogen (inactive when not trigger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to pepsin when HCl pres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s hydrolysis of proteins into polypept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chloric acid (HC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lls most foreign bacteria present in f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ates pepsin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1:33:46Z</dcterms:created>
  <dc:creator>John AJ O'Connor</dc:creator>
  <dc:description/>
  <dc:language>en-US</dc:language>
  <cp:lastModifiedBy>John AJ O'Connor</cp:lastModifiedBy>
  <dcterms:modified xsi:type="dcterms:W3CDTF">2011-04-20T02:58:57Z</dcterms:modified>
  <cp:revision>18</cp:revision>
  <dc:subject/>
  <dc:title>The Human Digestive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678229991</vt:lpwstr>
  </property>
</Properties>
</file>